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63520" y="2022480"/>
            <a:ext cx="622764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V="1">
            <a:off x="317520" y="2869920"/>
            <a:ext cx="6126120" cy="39290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ctr" rot="10800000">
            <a:noAutofit/>
          </a:bodyPr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8160" y="6988320"/>
            <a:ext cx="53881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_____________________________             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 of Training                                     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d Leader Development  (Approval)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016080" y="5413320"/>
            <a:ext cx="781200" cy="4748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449280" y="679320"/>
            <a:ext cx="5944680" cy="1263600"/>
            <a:chOff x="449280" y="679320"/>
            <a:chExt cx="5944680" cy="1263600"/>
          </a:xfrm>
        </p:grpSpPr>
        <p:graphicFrame>
          <p:nvGraphicFramePr>
            <p:cNvPr id="5" name=""/>
            <p:cNvGraphicFramePr/>
            <p:nvPr/>
          </p:nvGraphicFramePr>
          <p:xfrm>
            <a:off x="5128560" y="679320"/>
            <a:ext cx="1265400" cy="12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28560" y="679320"/>
                      <a:ext cx="1265400" cy="12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" name=""/>
            <p:cNvGraphicFramePr/>
            <p:nvPr/>
          </p:nvGraphicFramePr>
          <p:xfrm>
            <a:off x="449280" y="726840"/>
            <a:ext cx="1265400" cy="1216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9280" y="726840"/>
                      <a:ext cx="1265400" cy="12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" name=""/>
            <p:cNvGraphicFramePr/>
            <p:nvPr/>
          </p:nvGraphicFramePr>
          <p:xfrm>
            <a:off x="2841120" y="680760"/>
            <a:ext cx="1265400" cy="1216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41120" y="680760"/>
                      <a:ext cx="1265400" cy="121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-3873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0600" indent="-2588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806480" indent="-258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2322360" indent="-25704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5" marL="2322360" indent="-25704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6" marL="2322360" indent="-25704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8320" y="63360"/>
            <a:ext cx="6737400" cy="902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103320" rIns="103320" tIns="51480" bIns="51480" anchor="t">
            <a:normAutofit/>
          </a:bodyPr>
          <a:p>
            <a:pPr marL="387360" indent="0">
              <a:spcBef>
                <a:spcPts val="901"/>
              </a:spcBef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901"/>
              </a:spcBef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97440" y="6397560"/>
            <a:ext cx="309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0880" y="3017880"/>
            <a:ext cx="556416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52-21E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vy Construction Equipment Operator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ance Learn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 of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DL PO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30T16:58:42Z</dcterms:created>
  <dc:creator>PCDD</dc:creator>
  <dc:description/>
  <dc:language>en-US</dc:language>
  <cp:lastModifiedBy>Timothy Blake</cp:lastModifiedBy>
  <cp:lastPrinted>1999-11-05T20:22:37Z</cp:lastPrinted>
  <dcterms:modified xsi:type="dcterms:W3CDTF">2005-09-26T16:43:52Z</dcterms:modified>
  <cp:revision>157</cp:revision>
  <dc:subject/>
  <dc:title>No Slide Title</dc:title>
</cp:coreProperties>
</file>